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746-57FB-4582-91F5-5B954AE4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50C-A146-4473-82E7-80593897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0B9-6A84-427E-B1B7-69DECAD0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C73-1716-402E-9FF5-E628DA35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8BA-EE83-4C5D-83F9-A61B7E1E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8ED-9722-4E79-A8AA-4ACB775B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779-D653-4781-9E7E-A275A954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3BB-BC84-4FDC-9EEA-076A14E5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903-EEB8-4174-AB5D-62396CF6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1F2-9C9F-4CAC-B058-5B26A236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34B-E587-4D32-A4CC-D4EB45E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4B4-4410-48BA-9045-22AE7716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86D2-C416-4A66-BA25-424B156A0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12000"/>
          </a:blip>
          <a:srcRect l="26496" t="67263" r="21116" b="31042"/>
          <a:stretch/>
        </p:blipFill>
        <p:spPr>
          <a:xfrm>
            <a:off x="6218280" y="3357720"/>
            <a:ext cx="1401840" cy="4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8:06Z</dcterms:modified>
  <cp:revision>30</cp:revision>
  <dc:subject/>
  <dc:title>SALARIUL</dc:title>
</cp:coreProperties>
</file>